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3DF-48A0-45FD-A118-C2BBB3D95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AD4-6C19-4231-9097-F7B44454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B9C4-DABC-4B88-9510-936A7995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470-E18C-46EF-83F6-78A16A09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9ED-1D06-4FF7-86D5-7B07DAD6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1A3-F01D-4F7C-A63E-46C4C3C7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5CA3-5DBB-43E2-8A1B-5FCC4A7D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0CD-E3B9-415E-BAEA-5A71CC7A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E3FD-33AC-4B01-8CC0-1397A67B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EB3-AF5E-44B7-9678-1152E416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E6D4-024C-4083-93C5-4A9B2AA34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54AA-876E-4E71-A282-D1C21C78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61EF-1E1A-4549-B3E2-BDA4E730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9B6-1711-4145-AABF-75A8492B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ACE-E48F-4167-A41C-86C43854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3A5-B527-430F-9A5B-EE8271E9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EFD-F94E-4BB1-AFC0-2633C015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63E-05D1-43F9-ADA0-25FA43F03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E4D-34A9-4B19-8B26-3A6E1463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5F0-EBAC-4D90-8795-A9B0813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0E4-9EC3-4FBB-B74D-203577A6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D57-4E88-455D-9938-4C5B0ED7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31A-6F40-4403-BEEE-4BEF39EF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CE8-4083-478E-8CC5-69AF5676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1FF-3949-4013-8F95-1FE3A36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EB8-1DE0-442E-82C3-C641A54F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48-E43B-4265-9F09-156FC2F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B93-908C-4D19-9AD8-4B3ADB7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671-448F-464B-9D32-21CC159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CA0-0111-4794-9797-220D9D2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978-45DC-40DB-BEC4-4EED0351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http://cf.ltkcdn.net/cats/images/std/142731-425x283-Blue-Persian.jpg"/>
          <p:cNvPicPr/>
          <p:nvPr/>
        </p:nvPicPr>
        <p:blipFill>
          <a:blip r:embed="rId1"/>
          <a:stretch/>
        </p:blipFill>
        <p:spPr>
          <a:xfrm>
            <a:off x="3405240" y="2405160"/>
            <a:ext cx="246708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maine-coon-cat-nation.com/image-files/maine-coon-cat-traits2.jpg"/>
          <p:cNvPicPr/>
          <p:nvPr/>
        </p:nvPicPr>
        <p:blipFill>
          <a:blip r:embed="rId2"/>
          <a:stretch/>
        </p:blipFill>
        <p:spPr>
          <a:xfrm>
            <a:off x="270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encrypted-tbn3.gstatic.com/images?q=tbn:ANd9GcQpKABF2z_BT8t2KgBPCBgBMil6AlBk1tzFf88hQ0KwCv-Fymdk"/>
          <p:cNvPicPr/>
          <p:nvPr/>
        </p:nvPicPr>
        <p:blipFill>
          <a:blip r:embed="rId3"/>
          <a:stretch/>
        </p:blipFill>
        <p:spPr>
          <a:xfrm>
            <a:off x="3249720" y="673200"/>
            <a:ext cx="289692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i.telegraph.co.uk/multimedia/archive/01629/cat6_1629022i.jpg"/>
          <p:cNvPicPr/>
          <p:nvPr/>
        </p:nvPicPr>
        <p:blipFill>
          <a:blip r:embed="rId4"/>
          <a:stretch/>
        </p:blipFill>
        <p:spPr>
          <a:xfrm>
            <a:off x="6827760" y="155520"/>
            <a:ext cx="2306880" cy="184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etmd.com/sites/default/files/breedopedia/xbengal,P20atticus.jpg.pagespeed.ic.-nemBESwMw.jpg"/>
          <p:cNvPicPr/>
          <p:nvPr/>
        </p:nvPicPr>
        <p:blipFill>
          <a:blip r:embed="rId5"/>
          <a:stretch/>
        </p:blipFill>
        <p:spPr>
          <a:xfrm>
            <a:off x="0" y="1905120"/>
            <a:ext cx="2403360" cy="20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pawesomecats.com/wp-content/uploads/2014/07/Wild-Cats-Grooming-Each-Other.jpg"/>
          <p:cNvPicPr/>
          <p:nvPr/>
        </p:nvPicPr>
        <p:blipFill>
          <a:blip r:embed="rId6"/>
          <a:stretch/>
        </p:blipFill>
        <p:spPr>
          <a:xfrm>
            <a:off x="6711840" y="2027160"/>
            <a:ext cx="2392560" cy="17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http://james.westgard.com/.a/6a00d8354de03569e2019b0124fe80970d-pi"/>
          <p:cNvPicPr/>
          <p:nvPr/>
        </p:nvPicPr>
        <p:blipFill>
          <a:blip r:embed="rId7"/>
          <a:stretch/>
        </p:blipFill>
        <p:spPr>
          <a:xfrm>
            <a:off x="762120" y="5457960"/>
            <a:ext cx="7753320" cy="14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the-savannah-cat.com/image-files/distinctive-savannah.jpg"/>
          <p:cNvPicPr/>
          <p:nvPr/>
        </p:nvPicPr>
        <p:blipFill>
          <a:blip r:embed="rId8"/>
          <a:stretch/>
        </p:blipFill>
        <p:spPr>
          <a:xfrm>
            <a:off x="27000" y="3984480"/>
            <a:ext cx="130032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lhnet.org/assets/Carnivores/Jungle-cat/_resampled/resizedimage450359-jungle-cat-1.png"/>
          <p:cNvPicPr/>
          <p:nvPr/>
        </p:nvPicPr>
        <p:blipFill>
          <a:blip r:embed="rId9"/>
          <a:stretch/>
        </p:blipFill>
        <p:spPr>
          <a:xfrm>
            <a:off x="7067520" y="3832200"/>
            <a:ext cx="2036880" cy="1625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130400" y="5295960"/>
            <a:ext cx="59799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What do you conclude about cat var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480960" y="98568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1828800"/>
            <a:ext cx="5297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3200" spc="-1" strike="noStrike">
                <a:solidFill>
                  <a:srgbClr val="66cc33"/>
                </a:solidFill>
                <a:latin typeface="Verdana"/>
              </a:rPr>
              <a:t>Natural selection </a:t>
            </a:r>
            <a:r>
              <a:rPr b="0" lang="en-PH" sz="3200" spc="-1" strike="noStrike">
                <a:solidFill>
                  <a:srgbClr val="000000"/>
                </a:solidFill>
                <a:latin typeface="Verdana"/>
              </a:rPr>
              <a:t>is the process by which organisms that inherit advantageous traits tend to reproduce more success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563920" y="593640"/>
            <a:ext cx="75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http://4.bp.blogspot.com/-xwaQ8NvkXRY/UDgbkABb0dI/AAAAAAAAAQY/PmImLaiWxxI/s1600/12309712.gif"/>
          <p:cNvPicPr/>
          <p:nvPr/>
        </p:nvPicPr>
        <p:blipFill>
          <a:blip r:embed="rId2"/>
          <a:stretch/>
        </p:blipFill>
        <p:spPr>
          <a:xfrm>
            <a:off x="5297400" y="1747800"/>
            <a:ext cx="35560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152280" y="763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PH" sz="1800" spc="-1" strike="noStrike">
                <a:solidFill>
                  <a:srgbClr val="336699"/>
                </a:solidFill>
                <a:latin typeface="Verdana"/>
              </a:rPr>
              <a:t>Unit 1</a:t>
            </a:r>
            <a:r>
              <a:rPr b="1" lang="en-PH" sz="1800" spc="-1" strike="noStrike">
                <a:solidFill>
                  <a:srgbClr val="99cc33"/>
                </a:solidFill>
                <a:latin typeface="Verdana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Verdana"/>
              </a:rPr>
              <a:t>Lesson 2  </a:t>
            </a:r>
            <a:r>
              <a:rPr b="0" lang="en-PH" sz="1800" spc="-1" strike="noStrike">
                <a:solidFill>
                  <a:srgbClr val="000000"/>
                </a:solidFill>
                <a:latin typeface="Verdana"/>
              </a:rPr>
              <a:t>Theory of Evolution by Natur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563920" y="593640"/>
            <a:ext cx="75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7416720" y="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1901880" y="1447920"/>
            <a:ext cx="553716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"/>
          <p:cNvSpPr/>
          <p:nvPr/>
        </p:nvSpPr>
        <p:spPr>
          <a:xfrm>
            <a:off x="480960" y="98568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09480" y="658800"/>
            <a:ext cx="759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Overp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" y="163368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ff0066"/>
                </a:solidFill>
                <a:latin typeface="Verdana"/>
              </a:rPr>
              <a:t>Overproduction</a:t>
            </a: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a species plant or animal makes more offspring than the environment can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nly some will survive into adulth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Smaller number of them will then successfully re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0" y="5029200"/>
            <a:ext cx="1752480" cy="1716120"/>
            <a:chOff x="0" y="5029200"/>
            <a:chExt cx="1752480" cy="1716120"/>
          </a:xfrm>
        </p:grpSpPr>
        <p:sp>
          <p:nvSpPr>
            <p:cNvPr id="95" name="Oval 9"/>
            <p:cNvSpPr/>
            <p:nvPr/>
          </p:nvSpPr>
          <p:spPr>
            <a:xfrm>
              <a:off x="0" y="5029200"/>
              <a:ext cx="1752480" cy="17161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"/>
            <p:cNvSpPr/>
            <p:nvPr/>
          </p:nvSpPr>
          <p:spPr>
            <a:xfrm>
              <a:off x="257040" y="5279760"/>
              <a:ext cx="1238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Arial"/>
                </a:rPr>
                <a:t>Over-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http://ibbiologyhelp.com/Ecosystems/offspringoverproduction.png"/>
          <p:cNvPicPr/>
          <p:nvPr/>
        </p:nvPicPr>
        <p:blipFill>
          <a:blip r:embed="rId2"/>
          <a:stretch/>
        </p:blipFill>
        <p:spPr>
          <a:xfrm>
            <a:off x="3048120" y="3354480"/>
            <a:ext cx="40384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-152280" y="1401840"/>
            <a:ext cx="5715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Within a species there are </a:t>
            </a:r>
            <a:r>
              <a:rPr b="0" lang="en-PH" sz="2000" spc="-1" strike="noStrike">
                <a:solidFill>
                  <a:srgbClr val="c00000"/>
                </a:solidFill>
                <a:latin typeface="Verdana"/>
              </a:rPr>
              <a:t>natural differences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PH" sz="2000" spc="-1" strike="noStrike">
                <a:solidFill>
                  <a:srgbClr val="3399cc"/>
                </a:solidFill>
                <a:latin typeface="Verdana"/>
              </a:rPr>
              <a:t>variations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, in tra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Gene pool= total stock of different genes in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Variations </a:t>
            </a:r>
            <a:r>
              <a:rPr b="0" lang="en-PH" sz="2000" spc="-1" strike="noStrike">
                <a:solidFill>
                  <a:srgbClr val="c00000"/>
                </a:solidFill>
                <a:latin typeface="Verdana"/>
              </a:rPr>
              <a:t>come from differences in genetic material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. Genetic variations can be passed on from parent to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Sources of genetic var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Crossing-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Random 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Law of Independent Asso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465120" y="428760"/>
            <a:ext cx="866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bio.mtu.edu/%7Eeherschg/ColorVariation.jpg"/>
          <p:cNvPicPr/>
          <p:nvPr/>
        </p:nvPicPr>
        <p:blipFill>
          <a:blip r:embed="rId2"/>
          <a:stretch/>
        </p:blipFill>
        <p:spPr>
          <a:xfrm>
            <a:off x="5629320" y="1387440"/>
            <a:ext cx="3487680" cy="261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geneticmutation.net/wordpress/wp-content/uploads/gene_mutation.jpg"/>
          <p:cNvPicPr/>
          <p:nvPr/>
        </p:nvPicPr>
        <p:blipFill>
          <a:blip r:embed="rId3"/>
          <a:stretch/>
        </p:blipFill>
        <p:spPr>
          <a:xfrm>
            <a:off x="5791320" y="4876920"/>
            <a:ext cx="268128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609480" y="65880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Genetic Vari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507960" y="45720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1" descr=""/>
          <p:cNvPicPr/>
          <p:nvPr/>
        </p:nvPicPr>
        <p:blipFill>
          <a:blip r:embed="rId2"/>
          <a:stretch/>
        </p:blipFill>
        <p:spPr>
          <a:xfrm>
            <a:off x="2163600" y="914400"/>
            <a:ext cx="8564760" cy="5767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"/>
          <p:cNvGrpSpPr/>
          <p:nvPr/>
        </p:nvGrpSpPr>
        <p:grpSpPr>
          <a:xfrm>
            <a:off x="723960" y="1379520"/>
            <a:ext cx="1417680" cy="1295280"/>
            <a:chOff x="723960" y="1379520"/>
            <a:chExt cx="1417680" cy="1295280"/>
          </a:xfrm>
        </p:grpSpPr>
        <p:sp>
          <p:nvSpPr>
            <p:cNvPr id="106" name="Oval 8"/>
            <p:cNvSpPr/>
            <p:nvPr/>
          </p:nvSpPr>
          <p:spPr>
            <a:xfrm>
              <a:off x="723960" y="1379520"/>
              <a:ext cx="1417680" cy="12952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931680" y="1569960"/>
              <a:ext cx="100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Genetic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1" descr="http://tle.westone.wa.gov.au/content/file/c0a7f9da-2dc9-b549-578a-0f1a8921d148/1/bio_science_3b.zip/content/003_mechanisms/images/pic004.gif"/>
          <p:cNvPicPr/>
          <p:nvPr/>
        </p:nvPicPr>
        <p:blipFill>
          <a:blip r:embed="rId3"/>
          <a:stretch/>
        </p:blipFill>
        <p:spPr>
          <a:xfrm rot="20139600">
            <a:off x="-9000" y="2953800"/>
            <a:ext cx="4451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507960" y="13273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ndividuals try to get the resources that they need to survive, including food, water, space, and, in most cases, mates for reprodu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limiting factor= selection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reasoned that individuals with a particular trait are more likely to survive long enough to reprodu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s a result, the trait is “selected,” becoming more common in the next generation of offsp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380880" y="5072040"/>
            <a:ext cx="1573200" cy="1573200"/>
            <a:chOff x="380880" y="5072040"/>
            <a:chExt cx="1573200" cy="1573200"/>
          </a:xfrm>
        </p:grpSpPr>
        <p:sp>
          <p:nvSpPr>
            <p:cNvPr id="111" name="Oval 7"/>
            <p:cNvSpPr/>
            <p:nvPr/>
          </p:nvSpPr>
          <p:spPr>
            <a:xfrm>
              <a:off x="380880" y="5072040"/>
              <a:ext cx="1573200" cy="15732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"/>
            <p:cNvSpPr/>
            <p:nvPr/>
          </p:nvSpPr>
          <p:spPr>
            <a:xfrm>
              <a:off x="610920" y="5302080"/>
              <a:ext cx="111276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3" descr="http://www.scienceteacherprogram.org/biology/NaturalSelectionIllustration.gif"/>
          <p:cNvPicPr/>
          <p:nvPr/>
        </p:nvPicPr>
        <p:blipFill>
          <a:blip r:embed="rId2"/>
          <a:stretch/>
        </p:blipFill>
        <p:spPr>
          <a:xfrm>
            <a:off x="2590920" y="4876920"/>
            <a:ext cx="6553080" cy="1963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609480" y="65880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147600" y="121932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PH" sz="2200" spc="-1" strike="noStrike">
                <a:solidFill>
                  <a:srgbClr val="3399cc"/>
                </a:solidFill>
                <a:latin typeface="Verdana"/>
              </a:rPr>
              <a:t>adapta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 is an inherited trait that helps an organism survive and reproduce in its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s natural selection repeats from generation to generation, these adaptations become more common, and new adaptations may ar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ver time, the population becomes better adapted to the environ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http://www.exploringnature.org/graphics/adaptation_jpgs/beaver_adaptation.jpg"/>
          <p:cNvPicPr/>
          <p:nvPr/>
        </p:nvPicPr>
        <p:blipFill>
          <a:blip r:embed="rId2"/>
          <a:stretch/>
        </p:blipFill>
        <p:spPr>
          <a:xfrm>
            <a:off x="2971800" y="4125960"/>
            <a:ext cx="4800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380880" y="4478400"/>
            <a:ext cx="1752840" cy="1863720"/>
            <a:chOff x="380880" y="4478400"/>
            <a:chExt cx="1752840" cy="1863720"/>
          </a:xfrm>
        </p:grpSpPr>
        <p:sp>
          <p:nvSpPr>
            <p:cNvPr id="118" name="Oval 7"/>
            <p:cNvSpPr/>
            <p:nvPr/>
          </p:nvSpPr>
          <p:spPr>
            <a:xfrm>
              <a:off x="380880" y="4478400"/>
              <a:ext cx="1752840" cy="18637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37920" y="4751280"/>
              <a:ext cx="12384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Adap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0"/>
          <p:cNvSpPr/>
          <p:nvPr/>
        </p:nvSpPr>
        <p:spPr>
          <a:xfrm>
            <a:off x="1371600" y="62388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Adap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1066680" y="895320"/>
            <a:ext cx="75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How do species change over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33520" y="1504800"/>
            <a:ext cx="80899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daptations are variations that help a species survive and reprodu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t first, adaptations are rare. As more of the species survive and reproduce, the number of individuals with the adaptation will incr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ther adaptations are inherited behaviors that help an organism find food, protect itself, or reprodu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027080" y="46656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Well-adap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http://media0.faz.net/polopoly_fs/1.762214%21/image/1383864787.jpg_gen/derivatives/article_aufmacher_klein/1383864787.jpg"/>
          <p:cNvPicPr/>
          <p:nvPr/>
        </p:nvPicPr>
        <p:blipFill>
          <a:blip r:embed="rId2"/>
          <a:stretch/>
        </p:blipFill>
        <p:spPr>
          <a:xfrm>
            <a:off x="2209680" y="4530600"/>
            <a:ext cx="3922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1066680" y="895320"/>
            <a:ext cx="75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How do species change over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027080" y="46656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Well-adap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37960" y="18288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Parents and offspring often have small differences in genetic material, but over many generations, these differences add 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se differences accumulate so that organisms alive now are often very different from their anc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evolution.berkeley.edu/evolibrary/images/interviews/resistance.gif"/>
          <p:cNvPicPr/>
          <p:nvPr/>
        </p:nvPicPr>
        <p:blipFill>
          <a:blip r:embed="rId2"/>
          <a:stretch/>
        </p:blipFill>
        <p:spPr>
          <a:xfrm>
            <a:off x="1295280" y="3632040"/>
            <a:ext cx="65595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0492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ffc000"/>
                </a:solidFill>
                <a:latin typeface="Verdana"/>
              </a:rPr>
              <a:t>What happens to species as the environment chang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1371600"/>
            <a:ext cx="5334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All organisms have traits that allow them to survive in specific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If the environment changes, a species is more likely to survive if it has genetic variation, which results in a variation of tra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Genetic Drift = change in frequency of a traits within a population, favor the trait that is most advantag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If no individuals have traits that help them to survive and reproduce in the changed environment, a species will become extin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http://www.yalescientific.org/wp-content/uploads/2013/02/Climate-Change-Species_Figure1-500x422.jpg"/>
          <p:cNvPicPr/>
          <p:nvPr/>
        </p:nvPicPr>
        <p:blipFill>
          <a:blip r:embed="rId2"/>
          <a:stretch/>
        </p:blipFill>
        <p:spPr>
          <a:xfrm>
            <a:off x="5410080" y="1905120"/>
            <a:ext cx="3733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bjective 14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: Explain how natural selection influences changes in species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3679920"/>
            <a:ext cx="9144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xtinc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 occurs when all members of a species have di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Greater competi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new predators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loss of habitat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lang="en-PH" sz="2200" spc="-1" strike="noStrike" u="sng">
                <a:solidFill>
                  <a:srgbClr val="000000"/>
                </a:solidFill>
                <a:uFillTx/>
                <a:latin typeface="Verdana"/>
              </a:rPr>
              <a:t>examples of environmental changes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at can lead to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ecause a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natural disaster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can destroy resources quickly, organisms may die no matter what adaptations they h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fossil record shows that many species have become extinct in the history of life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0492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ffc000"/>
                </a:solidFill>
                <a:latin typeface="Verdana"/>
              </a:rPr>
              <a:t>What happens to species as the environment chang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73911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5"/>
          <p:cNvSpPr/>
          <p:nvPr/>
        </p:nvSpPr>
        <p:spPr>
          <a:xfrm>
            <a:off x="0" y="0"/>
            <a:ext cx="9067680" cy="681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581280" y="2590920"/>
            <a:ext cx="198144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-76320" y="-763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your initial thoughts in the big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7848720" y="-76320"/>
            <a:ext cx="14475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 to your thoughts as you watch the short video se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74600" y="452520"/>
            <a:ext cx="759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Verdana"/>
              </a:rPr>
              <a:t>Darwin’s Voy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 u="sng">
                <a:solidFill>
                  <a:srgbClr val="000000"/>
                </a:solidFill>
                <a:uFillTx/>
                <a:latin typeface="Verdana"/>
              </a:rPr>
              <a:t>Charles Darwi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ecame a naturalist, a scientist who studies nature, during a voyage on the British ship HMS Beag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n his journey, Darwin observed and collected many living and fossil specim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made his most important observations on the Galápagos Islands of South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concluded that species change due to their environment which formed his theory of biological 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volu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populations change over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143000" y="98568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http://afww.files.wordpress.com/2009/12/charles-darwin-31.jpg"/>
          <p:cNvPicPr/>
          <p:nvPr/>
        </p:nvPicPr>
        <p:blipFill>
          <a:blip r:embed="rId2"/>
          <a:stretch/>
        </p:blipFill>
        <p:spPr>
          <a:xfrm>
            <a:off x="6248520" y="576360"/>
            <a:ext cx="1081080" cy="119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http://www.biography.com/imported/images/Biography/Images/Profiles/D/Charles-Darwin-9266433-1-402.jpg"/>
          <p:cNvPicPr/>
          <p:nvPr/>
        </p:nvPicPr>
        <p:blipFill>
          <a:blip r:embed="rId3"/>
          <a:stretch/>
        </p:blipFill>
        <p:spPr>
          <a:xfrm>
            <a:off x="7416720" y="547560"/>
            <a:ext cx="130644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076400" y="528480"/>
            <a:ext cx="75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1480" y="1828800"/>
            <a:ext cx="756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89000" y="1066680"/>
            <a:ext cx="8915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volu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populations change over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A popula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all of the individuals of a species that live together in an area at the sam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A species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a group of closely related organisms that can produce fertile offsp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1.bp.blogspot.com/-IAHq9UQCzvE/TZRtPxzuIBI/AAAAAAAAAGU/gDjEWpqMdT4/s1600/Micro-evolution.jpg"/>
          <p:cNvPicPr/>
          <p:nvPr/>
        </p:nvPicPr>
        <p:blipFill>
          <a:blip r:embed="rId2"/>
          <a:stretch/>
        </p:blipFill>
        <p:spPr>
          <a:xfrm>
            <a:off x="2590920" y="1676520"/>
            <a:ext cx="3152520" cy="1869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7416720" y="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41480" y="460440"/>
            <a:ext cx="759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37116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collected birds from the Galápagos Islands and nearby islan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birds on each island were different from the birds on the other islands, and all were different from the birds on the mainl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wondered if the birds had evolved from one species of fin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http://www.shuvarahim.com/wp-content/uploads/2011/02/Galapagos-Islands-Map1.jpg"/>
          <p:cNvPicPr/>
          <p:nvPr/>
        </p:nvPicPr>
        <p:blipFill>
          <a:blip r:embed="rId2"/>
          <a:stretch/>
        </p:blipFill>
        <p:spPr>
          <a:xfrm>
            <a:off x="2217600" y="1069920"/>
            <a:ext cx="4708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66680" y="476280"/>
            <a:ext cx="759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58128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observed differences in beak size among finches from different islan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Many years later, scientists confirmed that these differences related to the birds’ di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irds with shorter, heavier beaks could eat harder foods than those with thinner beaks could 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www.animalcorner.co.uk/galapagos/graphics/finchbeakssml.jpg"/>
          <p:cNvPicPr/>
          <p:nvPr/>
        </p:nvPicPr>
        <p:blipFill>
          <a:blip r:embed="rId2"/>
          <a:stretch/>
        </p:blipFill>
        <p:spPr>
          <a:xfrm>
            <a:off x="2743200" y="1031760"/>
            <a:ext cx="34052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education.kings.edu/dsmith/0709.JPG"/>
          <p:cNvPicPr/>
          <p:nvPr/>
        </p:nvPicPr>
        <p:blipFill>
          <a:blip r:embed="rId2"/>
          <a:stretch/>
        </p:blipFill>
        <p:spPr>
          <a:xfrm>
            <a:off x="838080" y="68580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480960" y="44604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 1" descr=""/>
          <p:cNvPicPr/>
          <p:nvPr/>
        </p:nvPicPr>
        <p:blipFill>
          <a:blip r:embed="rId2"/>
          <a:stretch/>
        </p:blipFill>
        <p:spPr>
          <a:xfrm>
            <a:off x="963720" y="1438200"/>
            <a:ext cx="7699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9:52:53Z</dcterms:created>
  <dc:creator>McDougal Littell</dc:creator>
  <dc:description/>
  <dc:language>en-US</dc:language>
  <cp:lastModifiedBy>Geneva Jost</cp:lastModifiedBy>
  <cp:lastPrinted>2014-09-02T01:59:48Z</cp:lastPrinted>
  <dcterms:modified xsi:type="dcterms:W3CDTF">2017-02-27T18:47:02Z</dcterms:modified>
  <cp:revision>97</cp:revision>
  <dc:subject/>
  <dc:title>PowerPoint Presentation</dc:title>
</cp:coreProperties>
</file>